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194-4671-41C2-AA33-7BD33999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D82-7D43-4A74-9B65-859B61C8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6C6-AEBB-4175-8370-7442EE36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6A9-E4FA-4E2E-B173-8B232B0F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2CF-BFEC-4D26-AE49-8B321C6B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496-CF34-4F9F-84E0-975E057D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194-53CC-43AF-8B1D-0F2CD593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A8C-9664-40EA-BFDE-A2A6459C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CD2-BF9A-4E55-8A65-A819A30E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ACC-0276-4CB7-AEE6-093E6B7F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DED-1206-4052-8FA8-C22A3515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C65-6E6E-4946-9EA7-788AC597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D9F0-12E0-486A-97C4-035AD1AC4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封面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200400" y="19810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be0e3"/>
                </a:solidFill>
                <a:latin typeface="Arial"/>
                <a:ea typeface="黑体"/>
              </a:rPr>
              <a:t>如何挑选商家及成功案       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黑体"/>
              </a:rPr>
              <a:t>	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  <a:ea typeface="黑体"/>
              </a:rPr>
              <a:t>	</a:t>
            </a:r>
            <a:r>
              <a:rPr b="0" lang="zh-CN" sz="4000" spc="-1" strike="noStrike">
                <a:solidFill>
                  <a:srgbClr val="bbe0e3"/>
                </a:solidFill>
                <a:latin typeface="Arial"/>
                <a:ea typeface="黑体"/>
              </a:rPr>
              <a:t>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内页副本2"/>
          <p:cNvPicPr/>
          <p:nvPr/>
        </p:nvPicPr>
        <p:blipFill>
          <a:blip r:embed="rId1"/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饭统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28760" y="235728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128592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免费品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消费赠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新折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饭桶-饭票"/>
          <p:cNvPicPr/>
          <p:nvPr/>
        </p:nvPicPr>
        <p:blipFill>
          <a:blip r:embed="rId2"/>
          <a:stretch/>
        </p:blipFill>
        <p:spPr>
          <a:xfrm>
            <a:off x="3657600" y="380880"/>
            <a:ext cx="5486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内页副本2"/>
          <p:cNvPicPr/>
          <p:nvPr/>
        </p:nvPicPr>
        <p:blipFill>
          <a:blip r:embed="rId1"/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饭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428760" y="235728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285920"/>
            <a:ext cx="9715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折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新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切首页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切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切特别推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6" descr="１０.png"/>
          <p:cNvPicPr/>
          <p:nvPr/>
        </p:nvPicPr>
        <p:blipFill>
          <a:blip r:embed="rId2"/>
          <a:stretch/>
        </p:blipFill>
        <p:spPr>
          <a:xfrm>
            <a:off x="3714840" y="285840"/>
            <a:ext cx="2752560" cy="29620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9" descr="１１.png"/>
          <p:cNvPicPr/>
          <p:nvPr/>
        </p:nvPicPr>
        <p:blipFill>
          <a:blip r:embed="rId3"/>
          <a:stretch/>
        </p:blipFill>
        <p:spPr>
          <a:xfrm>
            <a:off x="4714920" y="2000160"/>
            <a:ext cx="4429080" cy="26863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0" descr="１２.png"/>
          <p:cNvPicPr/>
          <p:nvPr/>
        </p:nvPicPr>
        <p:blipFill>
          <a:blip r:embed="rId4"/>
          <a:stretch/>
        </p:blipFill>
        <p:spPr>
          <a:xfrm>
            <a:off x="2857680" y="4071960"/>
            <a:ext cx="42764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"/>
          <p:cNvSpPr/>
          <p:nvPr/>
        </p:nvSpPr>
        <p:spPr>
          <a:xfrm>
            <a:off x="428760" y="235728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571400"/>
            <a:ext cx="9715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1" marL="796680" indent="-421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扫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新开张的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有一定名气的店但是门店冷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引人注意的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北京优质商圈里的店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"/>
          <p:cNvSpPr/>
          <p:nvPr/>
        </p:nvSpPr>
        <p:spPr>
          <a:xfrm>
            <a:off x="428760" y="235728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520" y="1571400"/>
            <a:ext cx="76201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既往已合作商家推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老板的其他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老板周围的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老板朋友的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428760" y="235728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1571400"/>
            <a:ext cx="97156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1" marL="786960" indent="-416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报纸杂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精品购物指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周末画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ime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乐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09480" y="1571760"/>
            <a:ext cx="723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0000"/>
                </a:solidFill>
                <a:latin typeface="宋体"/>
              </a:rPr>
              <a:t>留意生活中的每个细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0000"/>
                </a:solidFill>
                <a:latin typeface="宋体"/>
              </a:rPr>
              <a:t>所有正在做宣传的商家都是需要推广的商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0000"/>
                </a:solidFill>
                <a:latin typeface="宋体"/>
              </a:rPr>
              <a:t>挑选符合标准的商家进行策划和谈判</a:t>
            </a:r>
            <a:br>
              <a:rPr sz="3200"/>
            </a:br>
            <a:r>
              <a:rPr b="0" lang="zh-CN" sz="3200" spc="-1" strike="noStrike">
                <a:solidFill>
                  <a:srgbClr val="99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  <a:ea typeface="黑体"/>
              </a:rPr>
              <a:t>  </a:t>
            </a: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二、如何制定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定方案的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295280" y="3048120"/>
            <a:ext cx="6324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</a:rPr>
              <a:t>要可以让企业，消费者，美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Arial"/>
              </a:rPr>
              <a:t>三方利益达到共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219320" y="1295280"/>
            <a:ext cx="441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三方根本利益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2514600"/>
            <a:ext cx="121932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商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消费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3733920" y="2514600"/>
            <a:ext cx="4647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销量和口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销量、推广、口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超值的价格和高品质的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2286000" y="2743200"/>
            <a:ext cx="1143000" cy="0"/>
          </a:xfrm>
          <a:prstGeom prst="line">
            <a:avLst/>
          </a:prstGeom>
          <a:ln w="7632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2286000" y="3886200"/>
            <a:ext cx="1143000" cy="0"/>
          </a:xfrm>
          <a:prstGeom prst="line">
            <a:avLst/>
          </a:prstGeom>
          <a:ln w="7632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2362320" y="4952880"/>
            <a:ext cx="1143000" cy="0"/>
          </a:xfrm>
          <a:prstGeom prst="line">
            <a:avLst/>
          </a:prstGeom>
          <a:ln w="76320">
            <a:solidFill>
              <a:srgbClr val="8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7"/>
          <p:cNvSpPr/>
          <p:nvPr/>
        </p:nvSpPr>
        <p:spPr>
          <a:xfrm>
            <a:off x="1371600" y="1676520"/>
            <a:ext cx="541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美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</a:rPr>
              <a:t>最重要的是销量和口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1447920" y="2895480"/>
            <a:ext cx="5715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销量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折扣低（利于吸引消费者，并提高销量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商家知名度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商家服务质量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用户消费体验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团营销的核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团、消费者、商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者相辅相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各自利益中得到共识，以达成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Diagram 35"/>
          <p:cNvGrpSpPr/>
          <p:nvPr/>
        </p:nvGrpSpPr>
        <p:grpSpPr>
          <a:xfrm>
            <a:off x="4717440" y="1708200"/>
            <a:ext cx="3613680" cy="3192840"/>
            <a:chOff x="4717440" y="1708200"/>
            <a:chExt cx="3613680" cy="3192840"/>
          </a:xfrm>
        </p:grpSpPr>
        <p:sp>
          <p:nvSpPr>
            <p:cNvPr id="47" name="_s1028"/>
            <p:cNvSpPr/>
            <p:nvPr/>
          </p:nvSpPr>
          <p:spPr>
            <a:xfrm>
              <a:off x="5713560" y="2274480"/>
              <a:ext cx="1621440" cy="16218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29"/>
            <p:cNvSpPr/>
            <p:nvPr/>
          </p:nvSpPr>
          <p:spPr>
            <a:xfrm>
              <a:off x="6308640" y="1708200"/>
              <a:ext cx="431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00"/>
                  </a:solidFill>
                  <a:latin typeface="Arial"/>
                  <a:ea typeface="黑体"/>
                </a:rPr>
                <a:t>消费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0"/>
            <p:cNvSpPr/>
            <p:nvPr/>
          </p:nvSpPr>
          <p:spPr>
            <a:xfrm>
              <a:off x="6247440" y="3199320"/>
              <a:ext cx="1621440" cy="16214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1"/>
            <p:cNvSpPr/>
            <p:nvPr/>
          </p:nvSpPr>
          <p:spPr>
            <a:xfrm>
              <a:off x="7899480" y="4496400"/>
              <a:ext cx="431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00"/>
                  </a:solidFill>
                  <a:latin typeface="Arial"/>
                  <a:ea typeface="黑体"/>
                </a:rPr>
                <a:t>商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2"/>
            <p:cNvSpPr/>
            <p:nvPr/>
          </p:nvSpPr>
          <p:spPr>
            <a:xfrm>
              <a:off x="5180040" y="3199320"/>
              <a:ext cx="1621440" cy="1621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4717440" y="4496400"/>
              <a:ext cx="4316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00"/>
                  </a:solidFill>
                  <a:latin typeface="Arial"/>
                  <a:ea typeface="黑体"/>
                </a:rPr>
                <a:t>美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371600" y="1676520"/>
            <a:ext cx="541008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商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</a:rPr>
              <a:t>最重要的是销量和推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447920" y="2895480"/>
            <a:ext cx="525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销量高（吸引到更多的消费者体验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能够带来二次消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371600" y="1676520"/>
            <a:ext cx="5410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消费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</a:rPr>
              <a:t>最重要的是价格和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447920" y="2895480"/>
            <a:ext cx="525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价格优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交通方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商家服务质量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商家接待能力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有需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新鲜事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752480" y="1676520"/>
            <a:ext cx="556272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满足以上三个方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有利于促成与商家合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能够提高销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达到美团预期的利润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让消费者得到最实惠的产品和高品质的服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4343400" y="2514600"/>
            <a:ext cx="0" cy="7621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4572000" y="2514600"/>
            <a:ext cx="0" cy="76212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371600" y="2286000"/>
            <a:ext cx="6477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525780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5257800" y="19810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问：为什么是好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影院，消费者强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名气的商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史无前例的超低折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家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团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5257800" y="19810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问：为什么是好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助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知名餐饮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优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家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团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510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5257800" y="19810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问：为什么是好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湾名小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北京有多家连锁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灵活、优惠、多店一起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家需求： ★ ★ ★ 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团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4876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5257800" y="19810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问：为什么是好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鲜，快消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知名商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灵活，对消费者没有限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家需求： ★ ★ ★ 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团需求： ★ ★ ★ 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510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5257800" y="19810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问：为什么是好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鲜，快消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国内知名网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快递，优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家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团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5257800" y="19810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问：为什么是好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众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国内知名品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折扣低，项目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家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团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828800"/>
            <a:ext cx="518148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143000" y="190512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团运营的核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BD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销售部门是任何企业的命脉，决定着企业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5257800" y="198108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问：为什么是好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少皆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知名音像制品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折扣低，包快递，新品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家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团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5105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914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案例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" descr="TM截图未命名.png"/>
          <p:cNvPicPr/>
          <p:nvPr/>
        </p:nvPicPr>
        <p:blipFill>
          <a:blip r:embed="rId1"/>
          <a:stretch/>
        </p:blipFill>
        <p:spPr>
          <a:xfrm>
            <a:off x="0" y="1828800"/>
            <a:ext cx="5181480" cy="3733920"/>
          </a:xfrm>
          <a:prstGeom prst="rect">
            <a:avLst/>
          </a:prstGeom>
          <a:ln w="0">
            <a:noFill/>
          </a:ln>
        </p:spPr>
      </p:pic>
      <p:sp>
        <p:nvSpPr>
          <p:cNvPr id="128" name="矩形 3"/>
          <p:cNvSpPr/>
          <p:nvPr/>
        </p:nvSpPr>
        <p:spPr>
          <a:xfrm>
            <a:off x="5334120" y="20574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问：为什么是好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季，之前没做过的户外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保证的商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灵活，对消费者基本没有限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商家需求：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团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消费者需求： ★ ★ ★ ★ 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封底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209680" y="2362320"/>
            <a:ext cx="358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219320" y="2057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黑体"/>
                <a:ea typeface="黑体"/>
              </a:rPr>
              <a:t>希望每一天我们都能做的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  <a:ea typeface="黑体"/>
              </a:rPr>
              <a:t>  </a:t>
            </a:r>
            <a:r>
              <a:rPr b="0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一、从何处挑选商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1600200" y="2514600"/>
            <a:ext cx="5257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熟悉往期团购（包括美团及竞争对手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熟悉美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百科全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里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熟悉美团近期目标及对于单子的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676520" y="1905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店前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990720"/>
            <a:ext cx="65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716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己想去什么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朋友想去什么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公司内部推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意街边广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意地铁广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电视节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42920" y="1143000"/>
            <a:ext cx="87120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网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团购聚合网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爱觅团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lety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uan8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练运用搜索引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开普通网页，还有新闻搜索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Letyo.com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专门的团购搜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点评类网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大众点评、口碑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专业网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论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饭统、新浪亲子论坛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折扣信息类网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糖豆、易城网、大众点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电子商务网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京东、卓越、当当、淘宝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SN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类网站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开心、人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饭统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28760" y="235728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197000"/>
            <a:ext cx="9715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免费品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免费品尝"/>
          <p:cNvPicPr/>
          <p:nvPr/>
        </p:nvPicPr>
        <p:blipFill>
          <a:blip r:embed="rId1"/>
          <a:stretch/>
        </p:blipFill>
        <p:spPr>
          <a:xfrm>
            <a:off x="3886200" y="685800"/>
            <a:ext cx="4952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饭统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428760" y="2357280"/>
            <a:ext cx="4038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1285920"/>
            <a:ext cx="9372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免费品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消费赠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饭桶赠送"/>
          <p:cNvPicPr/>
          <p:nvPr/>
        </p:nvPicPr>
        <p:blipFill>
          <a:blip r:embed="rId1"/>
          <a:stretch/>
        </p:blipFill>
        <p:spPr>
          <a:xfrm>
            <a:off x="3733920" y="685800"/>
            <a:ext cx="52848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0-11-17T10:38:5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